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4.wmf" ContentType="image/x-wmf"/>
  <Override PartName="/ppt/media/image2.wmf" ContentType="image/x-wmf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EFCAD-5B9D-4936-B85A-04CD59E43BE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Plants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l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Simple stuff!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imple stuff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Plant cells.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lant ce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66"/>
                </a:solidFill>
                <a:latin typeface="Arial"/>
              </a:rPr>
              <a:t>What is photosynthesis?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66"/>
                </a:solidFill>
                <a:latin typeface="Arial"/>
              </a:rPr>
              <a:t>So why did you mention starch?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photosynthesi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why did you mention starch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The experiment!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experimen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Take a leaf!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ake a leaf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Boil it in alcohol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oil it in alcoh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Add iodine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dd iod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66"/>
                </a:solidFill>
                <a:latin typeface="Arial"/>
              </a:rPr>
              <a:t>What do you write down?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66"/>
                </a:solidFill>
                <a:latin typeface="Arial"/>
              </a:rPr>
              <a:t>An outline of what you are doing and why you are doing it.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66"/>
                </a:solidFill>
                <a:latin typeface="Arial"/>
              </a:rPr>
              <a:t>A prediction as to what you expect to find and why.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66"/>
                </a:solidFill>
                <a:latin typeface="Arial"/>
              </a:rPr>
              <a:t>A conclusion explaining what you actually did find out (this MUST contain the chemical equation for photosynthesis).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you write dow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outline of what you are doing and why you are doing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rediction as to what you expect to find and wh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onclusion explaining what you actually did find out (this MUST contain the chemical equation for photosynthesi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407B2-FC2E-408E-A30C-92A3CC9B6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D9A32-5DC5-4EBE-9FA8-71FBFE99B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423D0-BB7E-41B1-B2F9-ECACC2C23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D9038-DF74-437D-9D5A-C6DB61679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ED669-A8F9-4396-91A5-1EA1416C4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8A402-DFC7-4A3E-8508-38D725AAD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2CB05-0E17-492D-9CA0-A614AA481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96DF1-06EB-4A85-B568-C2AAE798D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8A011-81B9-4E97-B808-3AF5FB5EC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958AF-9B38-4C6A-A442-439EE59DE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1B221-CA10-477B-9C4C-0891902DC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CB836-6700-4981-8072-191DD5EC6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5E57B-1CE0-480D-92BF-22EDDD6A8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61E91-BFDC-4C37-8CC4-8F138E2E5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112AB-1A42-4B41-8813-22B3E40DD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23AAA-A980-408A-A82C-FF6C20611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FF630-6837-48B7-9EB7-0086A3B63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8167B-78EF-4C70-90DA-77435C4C2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16A8C-3BFC-4D09-82D1-E1F487233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71F33-590C-4F80-A68C-D51D4E811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6006B-97CE-42E7-B7DE-8D1D48C4E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27FCF-62AF-484E-999C-C1EEBB0C6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9669D-8929-41EC-AD44-C6A40DE58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79C21-C4C9-422F-A115-306841D0E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07419-714B-4F20-AF1A-FF45988326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7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" name="Oval 8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" name="Oval 9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8" name="Oval 10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Line 7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6" name="Oval 8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7" name="Oval 9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8" name="Oval 10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9572E-181A-4D1D-8C83-11181C2C210D}" type="slidenum">
              <a:rPr b="0" lang="en-US" sz="14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Arial"/>
              </a:rPr>
              <a:t>Plant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j0234759"/>
          <p:cNvPicPr/>
          <p:nvPr/>
        </p:nvPicPr>
        <p:blipFill>
          <a:blip r:embed="rId1"/>
          <a:stretch/>
        </p:blipFill>
        <p:spPr>
          <a:xfrm>
            <a:off x="7196040" y="4292640"/>
            <a:ext cx="1947960" cy="25653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Arial"/>
              </a:rPr>
              <a:t>Simple stuff!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j0234633"/>
          <p:cNvPicPr/>
          <p:nvPr/>
        </p:nvPicPr>
        <p:blipFill>
          <a:blip r:embed="rId1"/>
          <a:stretch/>
        </p:blipFill>
        <p:spPr>
          <a:xfrm>
            <a:off x="2411280" y="2205000"/>
            <a:ext cx="2633760" cy="3456000"/>
          </a:xfrm>
          <a:prstGeom prst="rect">
            <a:avLst/>
          </a:prstGeom>
          <a:ln w="0">
            <a:noFill/>
          </a:ln>
        </p:spPr>
      </p:pic>
      <p:sp>
        <p:nvSpPr>
          <p:cNvPr id="101" name="Line 7"/>
          <p:cNvSpPr/>
          <p:nvPr/>
        </p:nvSpPr>
        <p:spPr>
          <a:xfrm flipH="1">
            <a:off x="4284720" y="2781360"/>
            <a:ext cx="1800000" cy="360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2" name="Line 8"/>
          <p:cNvSpPr/>
          <p:nvPr/>
        </p:nvSpPr>
        <p:spPr>
          <a:xfrm flipH="1">
            <a:off x="3995280" y="5084640"/>
            <a:ext cx="1800360" cy="360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3" name="Line 9"/>
          <p:cNvSpPr/>
          <p:nvPr/>
        </p:nvSpPr>
        <p:spPr>
          <a:xfrm flipH="1">
            <a:off x="4067280" y="4149720"/>
            <a:ext cx="1800000" cy="360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4" name="Line 10"/>
          <p:cNvSpPr/>
          <p:nvPr/>
        </p:nvSpPr>
        <p:spPr>
          <a:xfrm flipH="1">
            <a:off x="3634920" y="3789360"/>
            <a:ext cx="1800360" cy="360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Arial"/>
              </a:rPr>
              <a:t>Plant cells.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Object 5"/>
          <p:cNvGraphicFramePr/>
          <p:nvPr/>
        </p:nvGraphicFramePr>
        <p:xfrm>
          <a:off x="3305160" y="2025720"/>
          <a:ext cx="3571920" cy="399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05160" y="2025720"/>
                    <a:ext cx="3571920" cy="399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Line 6"/>
          <p:cNvSpPr/>
          <p:nvPr/>
        </p:nvSpPr>
        <p:spPr>
          <a:xfrm flipV="1">
            <a:off x="4708440" y="2898720"/>
            <a:ext cx="1368360" cy="216000"/>
          </a:xfrm>
          <a:prstGeom prst="line">
            <a:avLst/>
          </a:prstGeom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9" name="Line 7"/>
          <p:cNvSpPr/>
          <p:nvPr/>
        </p:nvSpPr>
        <p:spPr>
          <a:xfrm flipV="1">
            <a:off x="5292720" y="2334960"/>
            <a:ext cx="720720" cy="73080"/>
          </a:xfrm>
          <a:prstGeom prst="line">
            <a:avLst/>
          </a:prstGeom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0" name="Line 8"/>
          <p:cNvSpPr/>
          <p:nvPr/>
        </p:nvSpPr>
        <p:spPr>
          <a:xfrm flipV="1">
            <a:off x="2800440" y="4208400"/>
            <a:ext cx="863640" cy="216000"/>
          </a:xfrm>
          <a:prstGeom prst="line">
            <a:avLst/>
          </a:prstGeom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1" name="Line 9"/>
          <p:cNvSpPr/>
          <p:nvPr/>
        </p:nvSpPr>
        <p:spPr>
          <a:xfrm flipV="1">
            <a:off x="2800440" y="3217680"/>
            <a:ext cx="1044360" cy="198360"/>
          </a:xfrm>
          <a:prstGeom prst="line">
            <a:avLst/>
          </a:prstGeom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2" name="Line 10"/>
          <p:cNvSpPr/>
          <p:nvPr/>
        </p:nvSpPr>
        <p:spPr>
          <a:xfrm flipV="1">
            <a:off x="5140440" y="4081320"/>
            <a:ext cx="1368360" cy="216000"/>
          </a:xfrm>
          <a:prstGeom prst="line">
            <a:avLst/>
          </a:prstGeom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3" name="Line 11"/>
          <p:cNvSpPr/>
          <p:nvPr/>
        </p:nvSpPr>
        <p:spPr>
          <a:xfrm flipV="1">
            <a:off x="2873520" y="5143320"/>
            <a:ext cx="718920" cy="144360"/>
          </a:xfrm>
          <a:prstGeom prst="line">
            <a:avLst/>
          </a:prstGeom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4" name="Line 12"/>
          <p:cNvSpPr/>
          <p:nvPr/>
        </p:nvSpPr>
        <p:spPr>
          <a:xfrm flipV="1">
            <a:off x="5176800" y="3632040"/>
            <a:ext cx="863640" cy="216000"/>
          </a:xfrm>
          <a:prstGeom prst="line">
            <a:avLst/>
          </a:prstGeom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Arial"/>
              </a:rPr>
              <a:t>What is photosynthesis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2124000" y="6165720"/>
            <a:ext cx="47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6666"/>
                </a:solidFill>
                <a:latin typeface="Arial"/>
              </a:rPr>
              <a:t>So why did you mention starch?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4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5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Arial"/>
              </a:rPr>
              <a:t>The experiment!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4" descr="j0085914[1]"/>
          <p:cNvPicPr/>
          <p:nvPr/>
        </p:nvPicPr>
        <p:blipFill>
          <a:blip r:embed="rId1"/>
          <a:stretch/>
        </p:blipFill>
        <p:spPr>
          <a:xfrm>
            <a:off x="2322360" y="2852640"/>
            <a:ext cx="1197000" cy="20145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4" descr="j0085914[1]"/>
          <p:cNvPicPr/>
          <p:nvPr/>
        </p:nvPicPr>
        <p:blipFill>
          <a:blip r:embed="rId2"/>
          <a:stretch/>
        </p:blipFill>
        <p:spPr>
          <a:xfrm>
            <a:off x="5580000" y="2924280"/>
            <a:ext cx="1154160" cy="194292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16"/>
          <p:cNvSpPr/>
          <p:nvPr/>
        </p:nvSpPr>
        <p:spPr>
          <a:xfrm>
            <a:off x="4643280" y="2565360"/>
            <a:ext cx="3097440" cy="2881440"/>
          </a:xfrm>
          <a:prstGeom prst="rect">
            <a:avLst/>
          </a:prstGeom>
          <a:solidFill>
            <a:srgbClr val="0000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Arial"/>
              </a:rPr>
              <a:t>Take a leaf!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Arial"/>
              </a:rPr>
              <a:t>Boil it in alcoho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Arial"/>
              </a:rPr>
              <a:t>Add iodin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Arial"/>
              </a:rPr>
              <a:t>What do you write down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An outline of what you are doing and why you are doing i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A prediction as to what you expect to find and why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A conclusion explaining what you actually did find out (this MUST contain the chemical equation for photosynthesis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2T19:10:44Z</dcterms:created>
  <dc:creator>Paul</dc:creator>
  <dc:description/>
  <dc:language>en-US</dc:language>
  <cp:lastModifiedBy>RomaK</cp:lastModifiedBy>
  <dcterms:modified xsi:type="dcterms:W3CDTF">2015-09-04T11:38:12Z</dcterms:modified>
  <cp:revision>7</cp:revision>
  <dc:subject/>
  <dc:title>Plant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5</vt:r8>
  </property>
</Properties>
</file>